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3B84-8098-4696-B422-EB73D0919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31E3-5143-4AEF-BD51-9EDC48F3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E2E6-5B7B-42E5-9F5E-E1DC2F15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D937-C84F-4888-A62E-D448B7938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0897-92B9-483E-AA13-980EE44F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0D25-6149-46D7-9FFE-0DEC6AE3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FB5A-B816-42BA-9EAD-96547F12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CF13-EEEE-4BA8-91A5-13966475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EF7F-B2DE-48C1-A590-A4FC98FA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4957-B9EA-4450-B24A-4A1C3D37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6201-6438-446B-B2F4-99EFD5CB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4108-A8BD-49F6-A9C1-201FE7BF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1DD8-0CF7-4303-9409-1D5DFD2C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25A0-E430-403E-87F5-8F425E9E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3E4A-0C80-4276-A314-962DE07F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65D2-C281-4E2D-891A-23B02A18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5563-D408-4A40-91F8-57386C972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E77B6-5C10-452B-8FD5-CFB1C4D7C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9EF9D-2CD6-40C4-AB03-65EAC995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3FCC9-B61D-40A8-982A-0ED8CB7E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6AFDC-3808-4CE0-9E37-0A7CF86A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711D9-3907-4DCE-9898-AFFB56BD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55E1-5725-4BC8-B5DC-921AE2C8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C6A2D-A234-4EA0-A947-72A18116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E12B5-9A14-4ADE-96FD-52BF8B47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B69EB-08BC-4B75-AA5D-FC7DBEE1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B70DA-2D44-4737-9666-CE76F366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A024A-B57A-4790-AF4F-CB03B01E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1B8B4-9BF3-4166-83D4-DF882B5CA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ED43D-60CB-4B1B-A9ED-97104E19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C2031-55DF-4231-89F0-BBEC80BD0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5868A-5E82-4847-BE6A-72C9FA4B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2FEA4-338C-434D-861C-0CFA5FD8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7E7D-8226-4319-AB1D-A3BB507D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AE08B-94FD-4B4A-8D5F-6E59B056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E3551-6898-4BCA-99FA-0FE07A0C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5DA5A-DDA8-49C2-B54C-DB1F0335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5299F-28B7-46EF-9191-5B18400D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BA907-D95C-4E5E-B236-BB0F805F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9B961-D7D8-4F94-96AC-5A4EF2BC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F82EB-BC90-441F-8874-8FC00E8B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26A30-CD12-4BED-89CC-6AEC3091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0AB2C-AC03-4D17-8C61-D7A67BC04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4CDA3-264B-4F08-AA37-CFCDEECC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49E2-BBBA-43EC-A346-36844F3E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D500F-44C9-4898-9738-F0CAA2CF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BD0C9-6C9B-4BCA-B02A-986DE221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0345B-882E-446F-AC4C-A0ADDC28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6B480-C996-4872-BB6C-16C6485F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481CC-8805-4F19-8ACC-F707833C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0E692-6ECB-4243-A495-66F773AD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25B80-8A8E-4C5B-98B6-1B7F2560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E203B-C30E-4947-B262-F9ED2573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3101B-DE3E-4698-BAF4-BD2308E3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58C69-764E-430A-9BE6-F6D287CD2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BA92-1D4C-4650-8E4F-579CDB47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852FB-EAAB-48A6-9033-4135D6E21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62C90-7F87-4CEC-AAC4-1714A2091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0B216-431C-48F5-9A56-E767EE97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BA48E-BFAE-40BE-BDCF-27B954C0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230AE-907C-49F7-B52D-C3B67A22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FAEEF-C761-45E0-BF72-37F62782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23FC1-0A7A-4312-BCBD-A9844669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72470-6E9D-4EA9-BD24-7AB84B7A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F3913-396E-4A87-BCB8-19CCB5AD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E562E-EE72-4EC2-BBA1-8A987895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4B02-CF6A-42FA-96DF-06273256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D99CB-67C3-4806-90E4-213AF2D5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7360C-F926-48B4-8A05-0E021533B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F3902-4E8F-452C-8163-40CDA195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C031-83EA-49CE-8873-AF0082AE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0A87-7519-4EB9-97A1-86CB2EB1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9b9a98"/>
                </a:solidFill>
                <a:latin typeface="Times New Roman"/>
                <a:ea typeface="LilyUP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b9a98"/>
                </a:solidFill>
                <a:latin typeface="Times New Roman"/>
                <a:ea typeface="LilyUP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LilyUP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82B7-E9A1-499F-AC03-3AA66DDF97EF}" type="slidenum">
              <a:rPr b="0" lang="en-US" sz="1000" spc="-1" strike="noStrike">
                <a:solidFill>
                  <a:srgbClr val="9b9a98"/>
                </a:solidFill>
                <a:latin typeface="Times New Roman"/>
                <a:ea typeface="LilyUP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9b9a98"/>
                </a:solidFill>
                <a:latin typeface="Times New Roman"/>
                <a:ea typeface="LilyUP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b9a98"/>
                </a:solidFill>
                <a:latin typeface="Times New Roman"/>
                <a:ea typeface="LilyUP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LilyUP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12F4-0A9A-457E-BC90-F398FC110792}" type="slidenum">
              <a:rPr b="0" lang="en-US" sz="1000" spc="-1" strike="noStrike">
                <a:solidFill>
                  <a:srgbClr val="9b9a98"/>
                </a:solidFill>
                <a:latin typeface="Times New Roman"/>
                <a:ea typeface="LilyUP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8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9b9a98"/>
                </a:solidFill>
                <a:latin typeface="Times New Roman"/>
                <a:ea typeface="LilyUP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b9a98"/>
                </a:solidFill>
                <a:latin typeface="Times New Roman"/>
                <a:ea typeface="LilyUP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LilyUP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FCD8-EAAA-4BB9-86BD-6025B33B3126}" type="slidenum">
              <a:rPr b="0" lang="en-US" sz="1000" spc="-1" strike="noStrike">
                <a:solidFill>
                  <a:srgbClr val="9b9a98"/>
                </a:solidFill>
                <a:latin typeface="Times New Roman"/>
                <a:ea typeface="LilyUP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9b9a98"/>
                </a:solidFill>
                <a:latin typeface="Times New Roman"/>
                <a:ea typeface="LilyUP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b9a98"/>
                </a:solidFill>
                <a:latin typeface="Times New Roman"/>
                <a:ea typeface="LilyUP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LilyUP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9661-6CC7-4165-8107-ED819D652194}" type="slidenum">
              <a:rPr b="0" lang="en-US" sz="1000" spc="-1" strike="noStrike">
                <a:solidFill>
                  <a:srgbClr val="9b9a98"/>
                </a:solidFill>
                <a:latin typeface="Times New Roman"/>
                <a:ea typeface="LilyUP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9b9a98"/>
                </a:solidFill>
                <a:latin typeface="Times New Roman"/>
                <a:ea typeface="LilyUP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b9a98"/>
                </a:solidFill>
                <a:latin typeface="Times New Roman"/>
                <a:ea typeface="LilyUP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LilyUP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958C-AC2F-4EFC-AFD1-0460844A835F}" type="slidenum">
              <a:rPr b="0" lang="en-US" sz="1000" spc="-1" strike="noStrike">
                <a:solidFill>
                  <a:srgbClr val="9b9a98"/>
                </a:solidFill>
                <a:latin typeface="Times New Roman"/>
                <a:ea typeface="LilyUP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9b9a98"/>
                </a:solidFill>
                <a:latin typeface="Times New Roman"/>
                <a:ea typeface="LilyUP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b9a98"/>
                </a:solidFill>
                <a:latin typeface="Times New Roman"/>
                <a:ea typeface="LilyUP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LilyUP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5058-8240-4EAD-8411-678F36778208}" type="slidenum">
              <a:rPr b="0" lang="en-US" sz="1000" spc="-1" strike="noStrike">
                <a:solidFill>
                  <a:srgbClr val="9b9a98"/>
                </a:solidFill>
                <a:latin typeface="Times New Roman"/>
                <a:ea typeface="LilyUP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0" y="1139760"/>
            <a:ext cx="8961480" cy="44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ff33"/>
                </a:solidFill>
                <a:latin typeface="Franklin Gothic Book"/>
              </a:rPr>
              <a:t>Good practice IQ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Content Placeholder 2"/>
          <p:cNvSpPr/>
          <p:nvPr/>
        </p:nvSpPr>
        <p:spPr>
          <a:xfrm>
            <a:off x="457200" y="1600200"/>
            <a:ext cx="825804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การบูรณาการตัวชี้วัด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กพร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.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สมศ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.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สกอ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.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และอื่นๆ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การจัดทำ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Action Plan OFI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แผนการนำผลการประเมินคุณภาพไปใช้ในการพัฒนาคุณภาพอย่างต่อเนื่อง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การปรับโครงสร้างคณะกรรมการตรวจประเมินคุณภาพภายในจากเดิมเป็นคณาจารย์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ผู้เชี่ยวชาญ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ผู้ทรงคุณวุฒิ  กำหนด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เชิญชวน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)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ผู้บริหาร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คณบดี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รองคณบดี มาร่วมเป็นคณะกรรมการตรวจประเมินคุณภาพภายใ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การค้นหาแนวทางการปฏิบัติที่ดี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2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แนวทา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ค้นหาจากผลการตรวจประเมิ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คณะ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หน่ว่ยงานนำเสน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แต่งตั้งคณะกรรมการ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Site Visit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และตัดสินผลการให้รางวั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600" spc="-1" strike="noStrike">
                <a:solidFill>
                  <a:srgbClr val="99ff33"/>
                </a:solidFill>
                <a:latin typeface="Tahoma"/>
                <a:cs typeface="Tahoma"/>
              </a:rPr>
              <a:t>รายชื่อสมาชิกกลุ่ม </a:t>
            </a:r>
            <a:r>
              <a:rPr b="1" lang="en-US" sz="4600" spc="-1" strike="noStrike">
                <a:solidFill>
                  <a:srgbClr val="99ff33"/>
                </a:solidFill>
                <a:latin typeface="Tahoma"/>
                <a:ea typeface="Tahoma"/>
              </a:rPr>
              <a:t>5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2840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ดร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นิสาพร  วัฒนศัพท์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หาวิทยาลัยนเรศวร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ประธา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นางจิระประภา  ศรีปัตา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หาวิทยาลัยนเรศวร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อาจารย์ชาญชัย  รัตนวิบูลย์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หาวิทยาลัยนเรศว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นางจิระประภา  ศรีปัตตา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หาวิทยาลัยนเรศว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อาจารย์มงคล  มาลยารม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หาวิทยาลัยสงขลานครินทร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นางสาวอัจฉราวรรณ  ช่วยเนียม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หาวิทยาลัยสงขลานครินทร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นายสุริยะเ  สอนสุระ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หาวิทยาลัยมหาสารครา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นายอวยพร  เรืองศรี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หาวิทยาลัยวลัยลักษณ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อาจารย์ศักดิ์พงศ์  หอมหวน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หาวิทยาลัยราชภัฎมหาสารครา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นายบัณฑิต  สุวรรณโท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หาวิทยาลัยราชภัฎมหาสารครา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7467840" cy="11430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600" spc="-1" strike="noStrike">
                <a:solidFill>
                  <a:srgbClr val="99ff33"/>
                </a:solidFill>
                <a:latin typeface="Tahoma"/>
                <a:cs typeface="Tahoma"/>
              </a:rPr>
              <a:t>การประเมินการสอน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8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300" spc="-1" strike="noStrike">
                <a:solidFill>
                  <a:srgbClr val="ff7c80"/>
                </a:solidFill>
                <a:latin typeface="Tahoma"/>
                <a:cs typeface="Tahoma"/>
              </a:rPr>
              <a:t>รูปแบบการประเมินการสอน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00" spc="-1" strike="noStrike">
                <a:solidFill>
                  <a:srgbClr val="ffffff"/>
                </a:solidFill>
                <a:latin typeface="Tahoma"/>
                <a:cs typeface="Tahoma"/>
              </a:rPr>
              <a:t>มีระบบการประเมินออนไลน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00" spc="-1" strike="noStrike">
                <a:solidFill>
                  <a:srgbClr val="ffffff"/>
                </a:solidFill>
                <a:latin typeface="Tahoma"/>
                <a:cs typeface="Tahoma"/>
              </a:rPr>
              <a:t>มีระบบการประเมินด้วยแบบสอบถา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00" spc="-1" strike="noStrike">
                <a:solidFill>
                  <a:srgbClr val="ffffff"/>
                </a:solidFill>
                <a:latin typeface="Tahoma"/>
                <a:cs typeface="Tahoma"/>
              </a:rPr>
              <a:t>ดำเนินการควบคู่กันทั้งการประเมินออนไลน์และแบบสอบถา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8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300" spc="-1" strike="noStrike">
                <a:solidFill>
                  <a:srgbClr val="ff7c80"/>
                </a:solidFill>
                <a:latin typeface="Tahoma"/>
                <a:cs typeface="Tahoma"/>
              </a:rPr>
              <a:t>ระยะเวลาประเมิน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00" spc="-1" strike="noStrike">
                <a:solidFill>
                  <a:srgbClr val="ffffff"/>
                </a:solidFill>
                <a:latin typeface="Tahoma"/>
                <a:cs typeface="Tahoma"/>
              </a:rPr>
              <a:t>รายเทอ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00" spc="-1" strike="noStrike">
                <a:solidFill>
                  <a:srgbClr val="ffffff"/>
                </a:solidFill>
                <a:latin typeface="Tahoma"/>
                <a:cs typeface="Tahoma"/>
              </a:rPr>
              <a:t>รายวิช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00" spc="-1" strike="noStrike">
                <a:solidFill>
                  <a:srgbClr val="ffffff"/>
                </a:solidFill>
                <a:latin typeface="Tahoma"/>
                <a:cs typeface="Tahoma"/>
              </a:rPr>
              <a:t>ประเมินอาจารย์รายบุคค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06440" indent="-37116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7c80"/>
                </a:solidFill>
                <a:latin typeface="Tahoma"/>
                <a:cs typeface="Tahoma"/>
              </a:rPr>
              <a:t>กลไลการกระตุ้นให้นักศึกษาประเมิ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0200" indent="-2646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ประชาสัมพันธ์ด้วยวิธีการต่าง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0200" indent="-2646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บังคับให้กรอกแบบประเมินโดยผูกโยงกับการแจ้งเกรด หากนักศึกษายังไม่ประเมินจะได้รับแจ้งผลการเรียนช้าออกไ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0200" indent="-2646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การชี้แจงผ่าน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-mail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กรณีที่ยังไม่เข้าประเมินการสอ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0200" indent="-2646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ประเมินหลังจบการสอนทันที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ให้เวลา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15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นาที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0200" indent="-2646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จัดเตรียม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omputer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ให้พร้อมสำหรับการประเมินออนไลน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0200" indent="-2646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จัดตั้งเครือข่ายนักศึกษาเป็นยุวทูตการประกันคุณภาพ เพื่อเชิญชวนให้เพื่อนๆนักศึกษาเข้าไปประเมินออนไลน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7467840" cy="11430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99ff33"/>
                </a:solidFill>
                <a:latin typeface="Tahoma"/>
                <a:cs typeface="Tahoma"/>
              </a:rPr>
              <a:t>การประเมินการสอน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ff7c80"/>
                </a:solidFill>
                <a:latin typeface="Tahoma"/>
                <a:cs typeface="Tahoma"/>
              </a:rPr>
              <a:t>การนำผลการประเมินการสอนไปใช้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Tahoma"/>
                <a:cs typeface="Tahoma"/>
              </a:rPr>
              <a:t>ผ่านการประชุมกรรมการคณะ</a:t>
            </a:r>
            <a:r>
              <a:rPr b="0" lang="th-TH" sz="26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2600" spc="-1" strike="noStrike">
                <a:solidFill>
                  <a:srgbClr val="ffffff"/>
                </a:solidFill>
                <a:latin typeface="Tahoma"/>
                <a:cs typeface="Tahoma"/>
              </a:rPr>
              <a:t>ที่ประชุมผู้บริหาร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Tahoma"/>
                <a:cs typeface="Tahoma"/>
              </a:rPr>
              <a:t>เชื่อมโยงผลการประเมิน</a:t>
            </a:r>
            <a:r>
              <a:rPr b="0" lang="th-TH" sz="26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PA) </a:t>
            </a:r>
            <a:r>
              <a:rPr b="0" lang="th-TH" sz="2600" spc="-1" strike="noStrike">
                <a:solidFill>
                  <a:srgbClr val="ffffff"/>
                </a:solidFill>
                <a:latin typeface="Tahoma"/>
                <a:cs typeface="Tahoma"/>
              </a:rPr>
              <a:t>ของอาจารย์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2600" spc="-1" strike="noStrike">
                <a:solidFill>
                  <a:srgbClr val="ffffff"/>
                </a:solidFill>
                <a:latin typeface="Tahoma"/>
                <a:cs typeface="Tahoma"/>
              </a:rPr>
              <a:t>เชื่อมโยงกับ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Bonus</a:t>
            </a:r>
            <a:r>
              <a:rPr b="0" lang="th-TH" sz="2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2600" spc="-1" strike="noStrike">
                <a:solidFill>
                  <a:srgbClr val="ffffff"/>
                </a:solidFill>
                <a:latin typeface="Tahoma"/>
                <a:cs typeface="Tahoma"/>
              </a:rPr>
              <a:t>และการเลื่อนขั้นเงินเดือน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Tahoma"/>
                <a:cs typeface="Tahoma"/>
              </a:rPr>
              <a:t>เปรียบเทียบผลความพึงพอใจต่อประสิทธิภาพการสอนเป็นรายวิช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Tahoma"/>
                <a:cs typeface="Tahoma"/>
              </a:rPr>
              <a:t>นำผลไปปรับปรุงการจัดการเรียนการสอน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Tahoma"/>
                <a:cs typeface="Tahoma"/>
              </a:rPr>
              <a:t>อาจารย์แต่ละท่านสามารถเข้าไปดูผลการประเมินของตนเองได้เท่านั้นแต่คณบดีสามารถเข้าดูผลการประเมินของอาจารย์ได้ทุกคน และทุกรายวิช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7467840" cy="11430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600" spc="-1" strike="noStrike">
                <a:solidFill>
                  <a:srgbClr val="99ff33"/>
                </a:solidFill>
                <a:latin typeface="Tahoma"/>
                <a:cs typeface="Tahoma"/>
              </a:rPr>
              <a:t>การประเมินการสอน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ff7c80"/>
                </a:solidFill>
                <a:latin typeface="Tahoma"/>
                <a:cs typeface="Tahoma"/>
              </a:rPr>
              <a:t>ข้อเสนอแน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Tahoma"/>
                <a:cs typeface="Tahoma"/>
              </a:rPr>
              <a:t>อาจจะใช้ระบบ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IT  </a:t>
            </a:r>
            <a:r>
              <a:rPr b="0" lang="th-TH" sz="2600" spc="-1" strike="noStrike">
                <a:solidFill>
                  <a:srgbClr val="ffffff"/>
                </a:solidFill>
                <a:latin typeface="Tahoma"/>
                <a:cs typeface="Tahoma"/>
              </a:rPr>
              <a:t>โดย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Lock </a:t>
            </a:r>
            <a:r>
              <a:rPr b="0" lang="th-TH" sz="2600" spc="-1" strike="noStrike">
                <a:solidFill>
                  <a:srgbClr val="ffffff"/>
                </a:solidFill>
                <a:latin typeface="Tahoma"/>
                <a:cs typeface="Tahoma"/>
              </a:rPr>
              <a:t>ระบบสำหรับนักศึกษาที่ยังไม่ประเมินการสอนให้เข้าประเมินการสอน ไม่เช่นนั้นจะไม่สามารถทำกิจกรรมผ่านเว็บไซต์ได้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Tahoma"/>
                <a:cs typeface="Tahoma"/>
              </a:rPr>
              <a:t>การกำหนดให้นักศึกษาเข้าไปประเมินการสอนแบบออนไลน์โดยผูกโยงกับการแจ้งเกรดมีข้อดีคือ นักศึกษาเข้าไปประเมินประมาณ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90-100</a:t>
            </a:r>
            <a:r>
              <a:rPr b="0" lang="th-TH" sz="2600" spc="-1" strike="noStrike">
                <a:solidFill>
                  <a:srgbClr val="ffffff"/>
                </a:solidFill>
                <a:latin typeface="Tahoma"/>
                <a:ea typeface="Tahoma"/>
              </a:rPr>
              <a:t>%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2600" spc="-1" strike="noStrike">
                <a:solidFill>
                  <a:srgbClr val="ffffff"/>
                </a:solidFill>
                <a:latin typeface="Tahoma"/>
                <a:cs typeface="Tahoma"/>
              </a:rPr>
              <a:t>แต่ผลการประเมินอาจจะตรงกันข้ามกับความเป็นจริง เนื่องจากนักศึกษาไม่ชอบให้มีการบังคับ และเสี่ยงต่อการถูกนักศึกษาฟ้องร้อง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7467840" cy="11430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600" spc="-1" strike="noStrike">
                <a:solidFill>
                  <a:srgbClr val="99ff33"/>
                </a:solidFill>
                <a:latin typeface="Tahoma"/>
                <a:cs typeface="Tahoma"/>
              </a:rPr>
              <a:t>การประเมินการสอน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467840" cy="11430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ff33"/>
                </a:solidFill>
                <a:latin typeface="Franklin Gothic Book"/>
              </a:rPr>
              <a:t>Good Practice </a:t>
            </a:r>
            <a:r>
              <a:rPr b="1" lang="th-TH" sz="4600" spc="-1" strike="noStrike">
                <a:solidFill>
                  <a:srgbClr val="99ff33"/>
                </a:solidFill>
                <a:latin typeface="Franklin Gothic Book"/>
              </a:rPr>
              <a:t>การประเมินการสอน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55280" y="1267920"/>
            <a:ext cx="7467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ีการประเมินหลังสิ้นสุดการสอนทันทีโดยให้เวลานักศึกษา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15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นาที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ท้ายชั่วโมง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ทั้งนี้มีการเตรียมความพร้อมของห้องคอมพิวเตอร์ และเครื่องคอมพิวเตอร์ สำหรับการประเมินการสอน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คณะพยาบาลศาสตร์  มหาวิทยาลัยขอนแก่น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ีการสร้างเครือข่ายยุวทูตประกันคุณภาพโดยคัดเลือกจากตัวแทนนักศึกษาให้มีหน้าที่ชี้แจง ประชาสัมพันธ์  และชักชวนเพื่อนๆนักศึกษา ให้ไปประเมินการสอนผ่านระบบออนไลน์  รวมทั้งอธิบายและชี้แจงขั้นตอนการประเมินแบบออนไลน์ผ่านเว็บไซต์ให้รับทราบโดยทั่วกัน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คณะวิศวกรรมศาสตร์  มหาวิทยาลัยขอนแก่น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ีการประชาสัมพันธ์ให้นักศึกษาเข้าไปประเมินการสอนออนไลน์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1.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ประชาสัมพันธ์ผ่านชองทางต่างๆ เช่น ตัวอาจารย์ผู้สอน และสำนักวิชาศึกษาทั่วไป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2.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ส่ง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E-mail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ไปยังนักศึกษาที่ยังไม่ได้ประเมินให้เข้ามาประเมินการสอน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วลัยลักษณ์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99ff33"/>
                </a:solidFill>
                <a:latin typeface="Tahoma"/>
                <a:cs typeface="Tahoma"/>
              </a:rPr>
              <a:t>การตรวจประเมินคุณภาพภายใน</a:t>
            </a:r>
            <a:r>
              <a:rPr b="1" lang="th-TH" sz="3600" spc="-1" strike="noStrike">
                <a:solidFill>
                  <a:srgbClr val="99ff33"/>
                </a:solidFill>
                <a:latin typeface="Tahoma"/>
                <a:ea typeface="Tahoma"/>
              </a:rPr>
              <a:t>(</a:t>
            </a:r>
            <a:r>
              <a:rPr b="1" lang="en-US" sz="3600" spc="-1" strike="noStrike">
                <a:solidFill>
                  <a:srgbClr val="99ff33"/>
                </a:solidFill>
                <a:latin typeface="Tahoma"/>
                <a:ea typeface="Tahoma"/>
              </a:rPr>
              <a:t>IQA)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7c80"/>
                </a:solidFill>
                <a:latin typeface="Tahoma"/>
                <a:cs typeface="Tahoma"/>
              </a:rPr>
              <a:t>การตรวจประเมินคุณภาพภายใ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ดำเนินการทุกปีการศึกษ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ช่วงเดือน  กรกฎาคม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–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สิงหาค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ตรวจระดับสถาบัน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,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คณ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,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หน่วยงานสนับสนุ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7c80"/>
                </a:solidFill>
                <a:latin typeface="Tahoma"/>
                <a:cs typeface="Tahoma"/>
              </a:rPr>
              <a:t>ตัวชี้วัด</a:t>
            </a:r>
            <a:r>
              <a:rPr b="0" lang="th-TH" sz="2800" spc="-1" strike="noStrike">
                <a:solidFill>
                  <a:srgbClr val="ff7c80"/>
                </a:solidFill>
                <a:latin typeface="Tahoma"/>
                <a:ea typeface="Tahoma"/>
              </a:rPr>
              <a:t>(</a:t>
            </a:r>
            <a:r>
              <a:rPr b="0" lang="en-US" sz="2800" spc="-1" strike="noStrike">
                <a:solidFill>
                  <a:srgbClr val="ff7c80"/>
                </a:solidFill>
                <a:latin typeface="Tahoma"/>
                <a:ea typeface="Tahoma"/>
              </a:rPr>
              <a:t>KP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KPI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สกอ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44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ตัว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9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องค์ประกอ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บูรณาการตัวชี้วัด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มข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.)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โดยนำเอาตัวชี้วัด สกอ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,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สมศ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,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กพร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, THES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และตัวชี้วัดแผนของมหาวิทยาลั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กำหนดตัวชี้วัดที่สะท้อนอัตลักษณ์และบริบทของแต่ละคณะ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หน่วยงา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มีการปรับปรุงตัวชี้วัดทุกปีการศึกษาเพื่อให้เหมาะส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6840" y="1599840"/>
            <a:ext cx="82580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100" spc="-1" strike="noStrike">
                <a:solidFill>
                  <a:srgbClr val="ffffff"/>
                </a:solidFill>
                <a:latin typeface="Tahoma"/>
                <a:cs typeface="Tahoma"/>
              </a:rPr>
              <a:t>การนำผลการประเมินคุณภาพไปใช้ในการพัฒนาคุณภาพ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นำเสนอที่ประชุมกรรมการคณะ</a:t>
            </a:r>
            <a:r>
              <a:rPr b="0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กรรมการประกันคุณภาพ</a:t>
            </a:r>
            <a:r>
              <a:rPr b="0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ที่ประชุมคณบดี</a:t>
            </a:r>
            <a:r>
              <a:rPr b="0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ที่ประชุมสภามหาวิทยาลั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ระดมสมองเพื่อนำผลการประเมินไปใช้ในการพัฒนาคุณภาพอย่างต่อเนื่อ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มข</a:t>
            </a:r>
            <a:r>
              <a:rPr b="0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425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700" spc="-1" strike="noStrike">
                <a:solidFill>
                  <a:srgbClr val="ffffff"/>
                </a:solidFill>
                <a:latin typeface="Tahoma"/>
                <a:cs typeface="Tahoma"/>
              </a:rPr>
              <a:t>จัดทำประกาศมหาวิทยาลัยให้นำเอาผลการประเมินไปใช้ในการพัฒนาคุณภาพ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17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  <a:ea typeface="Tahoma"/>
              </a:rPr>
              <a:t>Action Plan OFI) </a:t>
            </a:r>
            <a:r>
              <a:rPr b="0" lang="th-TH" sz="1700" spc="-1" strike="noStrike">
                <a:solidFill>
                  <a:srgbClr val="ffffff"/>
                </a:solidFill>
                <a:latin typeface="Tahoma"/>
                <a:cs typeface="Tahoma"/>
              </a:rPr>
              <a:t>นำเสนอต่อมหาวิทยาลัย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425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700" spc="-1" strike="noStrike">
                <a:solidFill>
                  <a:srgbClr val="ffffff"/>
                </a:solidFill>
                <a:latin typeface="Tahoma"/>
                <a:cs typeface="Tahoma"/>
              </a:rPr>
              <a:t>ทุกคณะ</a:t>
            </a:r>
            <a:r>
              <a:rPr b="0" lang="th-TH" sz="17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1700" spc="-1" strike="noStrike">
                <a:solidFill>
                  <a:srgbClr val="ffffff"/>
                </a:solidFill>
                <a:latin typeface="Tahoma"/>
                <a:cs typeface="Tahoma"/>
              </a:rPr>
              <a:t>หน่วยงานจะต้องนำเสนอประเด็นที่คณะ</a:t>
            </a:r>
            <a:r>
              <a:rPr b="0" lang="th-TH" sz="17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1700" spc="-1" strike="noStrike">
                <a:solidFill>
                  <a:srgbClr val="ffffff"/>
                </a:solidFill>
                <a:latin typeface="Tahoma"/>
                <a:cs typeface="Tahoma"/>
              </a:rPr>
              <a:t>หน่วยงานได้นำผลการประเมินไปใช้ในการพัฒนาคุณภาพอย่างต่อเนื่องรวมทั้งพัฒนาการของคณะ</a:t>
            </a:r>
            <a:r>
              <a:rPr b="0" lang="th-TH" sz="17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1700" spc="-1" strike="noStrike">
                <a:solidFill>
                  <a:srgbClr val="ffffff"/>
                </a:solidFill>
                <a:latin typeface="Tahoma"/>
                <a:cs typeface="Tahoma"/>
              </a:rPr>
              <a:t>หน่วยงานในรอบปีที่ผ่านมา นำเสนอต่อคณะกรรมการตรวจประเมินคุณภาพภายในของมหาวิทยาลัย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425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700" spc="-1" strike="noStrike">
                <a:solidFill>
                  <a:srgbClr val="ffffff"/>
                </a:solidFill>
                <a:latin typeface="Tahoma"/>
                <a:cs typeface="Tahoma"/>
              </a:rPr>
              <a:t>ผลการตรวจประเมินคุณภาพภายใน</a:t>
            </a:r>
            <a:r>
              <a:rPr b="0" lang="th-TH" sz="17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  <a:ea typeface="Tahoma"/>
              </a:rPr>
              <a:t>IQA) </a:t>
            </a:r>
            <a:r>
              <a:rPr b="0" lang="th-TH" sz="1700" spc="-1" strike="noStrike">
                <a:solidFill>
                  <a:srgbClr val="ffffff"/>
                </a:solidFill>
                <a:latin typeface="Tahoma"/>
                <a:cs typeface="Tahoma"/>
              </a:rPr>
              <a:t>นำไปเชื่อมโยงกับคำรับรองการปฏิบัติราชการและการประเมินผลการดำเนินงานของผู้บริหารระดับสูง  ทำให้เกิดการบูรณาการเชื่อมโยงผลการดำเนินงานกับการประเมินคุณภาพ</a:t>
            </a:r>
            <a:r>
              <a:rPr b="0" lang="th-TH" sz="17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th-TH" sz="1700" spc="-1" strike="noStrike">
                <a:solidFill>
                  <a:srgbClr val="ffffff"/>
                </a:solidFill>
                <a:latin typeface="Tahoma"/>
                <a:cs typeface="Tahoma"/>
              </a:rPr>
              <a:t>สร้างวัฒนธรรมการประเมินคุณภาพ</a:t>
            </a:r>
            <a:r>
              <a:rPr b="0" lang="th-TH" sz="17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1.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cs typeface="Tahoma"/>
              </a:rPr>
              <a:t>สิ้นสุดกระบวนการตรวจประเมิน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2. 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cs typeface="Tahoma"/>
              </a:rPr>
              <a:t>มีการค้นหา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good pract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3. 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cs typeface="Tahoma"/>
              </a:rPr>
              <a:t>มีการปรับแผนปฏิบัติการ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4. 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cs typeface="Tahoma"/>
              </a:rPr>
              <a:t>จัดงาน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Show&amp;share, K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1430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900" spc="-1" strike="noStrike">
                <a:solidFill>
                  <a:srgbClr val="99ff33"/>
                </a:solidFill>
                <a:latin typeface="Tahoma"/>
                <a:cs typeface="Tahoma"/>
              </a:rPr>
              <a:t>การตรวจประเมินคุณภาพภายใน</a:t>
            </a:r>
            <a:r>
              <a:rPr b="1" lang="th-TH" sz="3900" spc="-1" strike="noStrike">
                <a:solidFill>
                  <a:srgbClr val="99ff33"/>
                </a:solidFill>
                <a:latin typeface="Tahoma"/>
                <a:ea typeface="Tahoma"/>
              </a:rPr>
              <a:t>(</a:t>
            </a:r>
            <a:r>
              <a:rPr b="1" lang="en-US" sz="3900" spc="-1" strike="noStrike">
                <a:solidFill>
                  <a:srgbClr val="99ff33"/>
                </a:solidFill>
                <a:latin typeface="Tahoma"/>
                <a:ea typeface="Tahoma"/>
              </a:rPr>
              <a:t>IQA)</a:t>
            </a:r>
            <a:endParaRPr b="0" lang="en-US" sz="39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7:41:26Z</dcterms:created>
  <dc:creator>MoZarD</dc:creator>
  <dc:description/>
  <dc:language>en-US</dc:language>
  <cp:lastModifiedBy>plan division kku</cp:lastModifiedBy>
  <dcterms:modified xsi:type="dcterms:W3CDTF">2010-03-22T10:12:50Z</dcterms:modified>
  <cp:revision>32</cp:revision>
  <dc:subject/>
  <dc:title>กลุ่ม 5 การประเมินและติดตามผลการจัดการศึกษา </dc:title>
</cp:coreProperties>
</file>